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png" ContentType="image/pn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EEACA-4531-4F82-BF5A-FD1AAB6F3F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A9513-970C-4720-84D9-F59FAC61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46AF7-AD40-4332-A224-3EE6D006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BDFC1-A935-40C3-841B-0BA4415A56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21BF9-A746-41BD-9B86-F1B0E6CA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04407-F4B3-4DC3-8B30-03AB0E37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7BD53-084A-49C9-9AEC-E170C368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088D0-4647-4AFC-8B4A-ACF7DF7F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0D94D-F832-4157-81FE-937F61C6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6B0BF-2979-4E54-9AB3-A2D49F48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1593E-9EA3-4791-AD0D-FD3B7514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724C4-2C37-4586-A529-C41629ED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B937-6317-4957-8975-403D95A5F62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八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致病性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814400" y="48578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承德医学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方艳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32000" y="2781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炭疽主要是食草动物的传染病。人对炭疽芽胞杆菌也易感，根据感染途径不同，人类炭疽有三种临床类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皮肤炭疽、肺炭疽、肠炭疽。上述三型均可并发败血症，引起急性出血性脑膜炎等，死亡率很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皮肤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5" descr="BantLesion1"/>
          <p:cNvPicPr/>
          <p:nvPr/>
        </p:nvPicPr>
        <p:blipFill>
          <a:blip r:embed="rId1"/>
          <a:stretch/>
        </p:blipFill>
        <p:spPr>
          <a:xfrm>
            <a:off x="179280" y="2276640"/>
            <a:ext cx="4113360" cy="3297240"/>
          </a:xfrm>
          <a:prstGeom prst="rect">
            <a:avLst/>
          </a:prstGeom>
          <a:ln w="9360">
            <a:solidFill>
              <a:srgbClr val="046ca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40" name="Rectangle 8"/>
          <p:cNvSpPr/>
          <p:nvPr/>
        </p:nvSpPr>
        <p:spPr>
          <a:xfrm>
            <a:off x="4643280" y="3581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经皮肤破损处侵入，起初在局部形成小疖，继之变为水疱、脓疱，脓疱中心因凝固性坏死形成黑色的焦痂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肺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由于吸入炭疽芽胞所致，芽胞被肺泡中巨噬细胞吞噬后，在纵膈淋巴结发芽形成繁殖体并释放毒素，导致纵膈出血性坏死和水肿，并进一步引起败血症和出血性脑膜炎，死亡率极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6" descr="inhaled-anthrax"/>
          <p:cNvPicPr/>
          <p:nvPr/>
        </p:nvPicPr>
        <p:blipFill>
          <a:blip r:embed="rId1"/>
          <a:stretch/>
        </p:blipFill>
        <p:spPr>
          <a:xfrm>
            <a:off x="539640" y="2349360"/>
            <a:ext cx="379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肠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因食入了死亡炭疽动物的制品而感染。经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左右的出血性腹泻后，病人很快因败血症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gi-anthrax"/>
          <p:cNvPicPr/>
          <p:nvPr/>
        </p:nvPicPr>
        <p:blipFill>
          <a:blip r:embed="rId1"/>
          <a:stretch/>
        </p:blipFill>
        <p:spPr>
          <a:xfrm>
            <a:off x="684360" y="2421000"/>
            <a:ext cx="35906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临床病型不同，可采取渗出液、血液、痰、粪便等标本。炭疽动物尸体严禁剖检，必要时可割取耳尖或舌尖组织检查。将标本先作涂片，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∶100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汞固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以杀死芽胞，然后染色镜检。若发现有荚膜的典型竹节状革兰阳性粗大杆菌，结合临床症状即可初步诊断。也可将标本分离培养，通过系列鉴定试验进行确定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炭疽病的关键在于加强病畜管理，一经发现，病畜应立即隔离、处死，死畜严禁剥皮或煮食，必须焚烧或深埋于地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米。在流行地区对相关职业人员，如牧民、屠宰工人、兽医、皮毛工人等以及易感家畜可进行炭疽芽胞杆菌减毒活疫苗接种。青霉素是治疗炭疽的首选药物，也可使用强力霉素、磺胺类药物等进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二、鼠疫耶尔森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Y.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pest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187280" y="357336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俗称鼠疫杆菌，属于耶尔森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Yersinia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鼠疫的病原菌。鼠疫是一种自然疫源性的烈性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11280" y="4724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钝圆浓染，有荚膜，无鞭毛，不形成芽胞。镜下可见着色极为浅淡的菌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7" descr="whi10040_fm-5"/>
          <p:cNvPicPr/>
          <p:nvPr/>
        </p:nvPicPr>
        <p:blipFill>
          <a:blip r:embed="rId1"/>
          <a:stretch/>
        </p:blipFill>
        <p:spPr>
          <a:xfrm>
            <a:off x="3276720" y="1197000"/>
            <a:ext cx="43974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24000" y="1197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971640" y="2133720"/>
            <a:ext cx="72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该菌致病因素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内毒素、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抗原，存在于菌体表面，可抑制吞噬细胞的吞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鼠毒素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urine toxin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T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，是一种特别的外毒素，要菌体裂解后方释放，可引起局部坏死和毒血症。可经甲醛处理制成类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900000" y="206064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播途径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寄居于啮齿类动物体内，在人类鼠疫发生之前，一般先在鼠类中流行。随着大批病鼠死亡，失去宿主的鼠蚤转向人群，引起人间鼠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547640" y="191628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一节  人畜共患病病原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547640" y="38552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人畜共患病病原菌是一类既感染人又感染动物的病原菌。由同一种病原体引起的动物和人的某些传染病称为人畜共患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68360" y="1125360"/>
            <a:ext cx="79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类型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上常见的病型有腺鼠疫、败血型鼠疫和肺鼠疫。由于鼠疫毒素主要作用于全身周围血管及淋巴管，致微循环障碍，患者临死前，皮肤高度发绀，故有“黑死病”之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5"/>
          <p:cNvGrpSpPr/>
          <p:nvPr/>
        </p:nvGrpSpPr>
        <p:grpSpPr>
          <a:xfrm>
            <a:off x="324000" y="2852640"/>
            <a:ext cx="3228840" cy="3013200"/>
            <a:chOff x="324000" y="2852640"/>
            <a:chExt cx="3228840" cy="3013200"/>
          </a:xfrm>
        </p:grpSpPr>
        <p:pic>
          <p:nvPicPr>
            <p:cNvPr id="173" name="Picture 6" descr="bubo"/>
            <p:cNvPicPr/>
            <p:nvPr/>
          </p:nvPicPr>
          <p:blipFill>
            <a:blip r:embed="rId1"/>
            <a:stretch/>
          </p:blipFill>
          <p:spPr>
            <a:xfrm>
              <a:off x="324000" y="2852640"/>
              <a:ext cx="322884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7"/>
            <p:cNvSpPr/>
            <p:nvPr/>
          </p:nvSpPr>
          <p:spPr>
            <a:xfrm>
              <a:off x="1400400" y="3923640"/>
              <a:ext cx="416520" cy="34596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5" name="Picture 8" descr="败血症型鼠疫"/>
          <p:cNvPicPr/>
          <p:nvPr/>
        </p:nvPicPr>
        <p:blipFill>
          <a:blip r:embed="rId2"/>
          <a:stretch/>
        </p:blipFill>
        <p:spPr>
          <a:xfrm>
            <a:off x="3851280" y="3716280"/>
            <a:ext cx="2822400" cy="2174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Plague1"/>
          <p:cNvPicPr/>
          <p:nvPr/>
        </p:nvPicPr>
        <p:blipFill>
          <a:blip r:embed="rId3"/>
          <a:stretch/>
        </p:blipFill>
        <p:spPr>
          <a:xfrm>
            <a:off x="7020000" y="2852640"/>
            <a:ext cx="1816200" cy="30481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2"/>
          <p:cNvSpPr/>
          <p:nvPr/>
        </p:nvSpPr>
        <p:spPr>
          <a:xfrm>
            <a:off x="158796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腺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610236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败血型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24000" y="1341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和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11280" y="2781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是甲类烈性传染病，因此，对鼠疫耶尔森菌的检测应由专业人员在指定的实验室内进行。预防的根本措施是灭鼠、灭蚤。流行区可接种鼠疫疫苗。只要怀疑为鼠疫，立即使用大剂量抗生素进行治疗。首选链霉素，备选四环素类，或联合使用链霉素和四环素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56000" y="141300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三、布鲁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Brucella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971640" y="3645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布鲁菌属细菌可致动物和人患布鲁菌病。该属细菌共有六个生物种，我国流行的是羊、牛和猪布鲁菌三种，以羊布鲁菌最常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940360" y="3141720"/>
            <a:ext cx="30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无鞭毛，不形成芽胞，光滑型菌株有荚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brucella"/>
          <p:cNvPicPr/>
          <p:nvPr/>
        </p:nvPicPr>
        <p:blipFill>
          <a:blip r:embed="rId1"/>
          <a:stretch/>
        </p:blipFill>
        <p:spPr>
          <a:xfrm>
            <a:off x="179280" y="1844640"/>
            <a:ext cx="57596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79280" y="1268280"/>
            <a:ext cx="27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187280" y="2133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需氧菌。初次分离时需提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生长缓慢，常用肝浸液培养基培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50920" y="335772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550040" y="46519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该菌对热敏感，巴氏消毒法可杀灭牛乳中的布鲁菌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79280" y="12682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755640" y="206064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的致病因素主要是内毒素。荚膜及透明质酸酶与细菌的侵入、扩散有密切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菌侵袭力强，最易感染牛、羊、猪等动物，导致动物胎盘炎和流产，如感染波及乳腺，细菌会随乳汁排出，持续数月甚至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类感染主要是通过食入污染的动物乳汁、皮肤接触感染的动物组织或排泄物、或吸入含菌飞沫而感染，也可通过眼结膜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989000"/>
            <a:ext cx="849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胞内寄生菌，故对其免疫主要为细胞免疫，一般认为是带菌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24000" y="21337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79280" y="1268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及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68360" y="2133720"/>
            <a:ext cx="820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病的实验室诊断依靠病原体分离鉴定、血清学试验及皮肤试验（布鲁菌素试验）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是加强病畜管理、切断传播途径和预防接种。预防接种为减毒活疫苗，对象主要以畜群为主。对疫区人群、相关职业人群可采用减毒活疫苗皮上划痕法接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菌治疗推荐四环素类（如多西环素）和链霉素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，或四环素类与利福平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。由于胞内寄生，一旦转为慢性，抗菌治疗作用有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二节  军团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58920" y="33544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军团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egion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 能引起人类军团菌病。嗜肺军团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. pneumophi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该菌属中最主要的致病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一、炭疽芽胞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B.anthrac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84360" y="357336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炭疽芽胞杆菌属于需氧芽胞杆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acillu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动物和人类炭疽病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003640" y="278136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杆菌，有时呈多形态。无荚膜，不形成芽胞，有菌毛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至数根端鞭毛，镀银染色后呈黑褐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2" name="Picture 6" descr="vance2_preview"/>
          <p:cNvPicPr/>
          <p:nvPr/>
        </p:nvPicPr>
        <p:blipFill>
          <a:blip r:embed="rId1"/>
          <a:srcRect l="7081" t="24510" r="0" b="22461"/>
          <a:stretch/>
        </p:blipFill>
        <p:spPr>
          <a:xfrm>
            <a:off x="1042920" y="1916280"/>
            <a:ext cx="3073320" cy="1720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LegionellaPneumophila_Gram"/>
          <p:cNvPicPr/>
          <p:nvPr/>
        </p:nvPicPr>
        <p:blipFill>
          <a:blip r:embed="rId2"/>
          <a:stretch/>
        </p:blipFill>
        <p:spPr>
          <a:xfrm>
            <a:off x="539640" y="3789360"/>
            <a:ext cx="37944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971640" y="2637000"/>
            <a:ext cx="70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为专性需氧菌，培养较困难，人工培养时需供给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-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半胱氨酸和铁才能生长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促进其生长，最适生长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5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H7.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初次培养一般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天后才有针尖样、灰白色菌落出现。传代后生长可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39640" y="2349360"/>
            <a:ext cx="813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存在于自然界的水源中，如湖泊、溪流，在人工管道如循环水淋浴、热水管、空调冷凝水及呼吸机等产生的气溶胶中常可被检出。因此，本菌主要以气溶胶传播，通过呼吸道进入人体，引起以肺为主的全身性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主要引起军团菌病，也可引起医院感染，其致病物质主要是产生的多种酶类和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病有三种临床类型，即流感样型、肺炎型和肺外感染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68360" y="1628640"/>
            <a:ext cx="813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样型：又称庞蒂亚克热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ontiac fev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为轻症感染，仅有流感样症状，一般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逐渐消退，预后良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炎型：亦称军团病，起病急骤，以肺炎症状为主，伴有多器官损害。患者出现高热、寒战、头痛、肌痛剧烈、胸痛并多伴有中枢神经系统症状，最后可发展为呼吸衰竭，病死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外感染型：为继发性感染，出现脑、肾、肝等多脏器感染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为胞内寄生菌，抗菌免疫以细胞免疫为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24000" y="1413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与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468360" y="2852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对军团菌病确诊有重要意义。从患者痰液、血液、肺灌洗液、胸水或肺活检标本中分离到军团菌即可确诊。对本菌无特异性预防方法。治疗可用红霉素、利福平等抗菌药物，青霉素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三节  白喉棒状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684360" y="33544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.diphtheri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简称白喉杆菌，属于棒状杆菌属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orynebacteriu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白喉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3780000" y="27082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菌体细长略弯，一端或两端膨大呈棒状。细菌的排列不规则，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Y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形或栅栏状。无荚膜，无鞭毛，不形成芽胞；革兰染色阳性，美蓝或奈瑟法染色可见菌体内异染颗粒，是此菌主要特征，有鉴定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8" descr="12"/>
          <p:cNvPicPr/>
          <p:nvPr/>
        </p:nvPicPr>
        <p:blipFill>
          <a:blip r:embed="rId1"/>
          <a:stretch/>
        </p:blipFill>
        <p:spPr>
          <a:xfrm>
            <a:off x="250920" y="1989000"/>
            <a:ext cx="3311280" cy="36734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9"/>
          <p:cNvSpPr/>
          <p:nvPr/>
        </p:nvSpPr>
        <p:spPr>
          <a:xfrm>
            <a:off x="684360" y="58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奈瑟法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932360" y="1916280"/>
            <a:ext cx="37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菌。最适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7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在含血清的吕氏培养基上生长较快，培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形成细小、灰白色、光滑型菌落。在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亚碲酸钾血平板上，因其能吸收碲盐并在菌体内还原为元素碲，故菌落呈黑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4289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4360" y="2637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的主要致病物质是白喉毒素。由携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 -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棒状杆菌噬菌体的白喉棒状杆菌产生。白喉毒素是一种外毒素，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两个亚单位构成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能与易感细胞膜表面受体结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协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进入细胞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是毒素活性中心，可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AD+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上的腺苷二磷酸核糖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DPR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与肽链延长因子Ⅱ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结合，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失活，从而抑制细胞蛋白质的合成，造成细胞变性死亡或功能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851280" y="2276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传染源是白喉患者或带菌者。主要经飞沫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呼吸道侵入后，细菌首先在鼻咽部黏膜表面生长繁殖并产生白喉毒素，引起黏膜上皮细胞坏死、血管扩张、炎性细胞浸润。由血管渗出的纤维蛋白将炎性细胞、黏膜坏死组织和细菌聚集在一起形成灰白色假膜，故称白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5" descr="D1Q98BCAQDAEYKCAZAWNDBCAXLHYOOCAGYUAWKCATZ2ZF3CAIXPH6JCA017WHLCAS5CY8OCAN2VM4RCA042OR3CA193P3YCA310UX3CARK7CN5CAPV2DUSCABQOUH0CATKD2KFCAZC7252CAY19NC8"/>
          <p:cNvPicPr/>
          <p:nvPr/>
        </p:nvPicPr>
        <p:blipFill>
          <a:blip r:embed="rId1"/>
          <a:srcRect l="0" t="0" r="0" b="9070"/>
          <a:stretch/>
        </p:blipFill>
        <p:spPr>
          <a:xfrm>
            <a:off x="250920" y="2637000"/>
            <a:ext cx="34923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39640" y="1989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膜与黏膜下组织紧密粘连，不易擦除，但若蔓延到气管或支气管黏膜，则易脱落而引起呼吸道阻塞，严重者可因窒息死亡。本菌不侵入深部组织或血流，但其产生的白喉毒素易被吸收入血，并迅速与易感组织细胞结合，引起全身中毒。最常受累的器官是心肌和外周神经，也可累及肝、肾及肾上腺等。临床上主要表现为心肌炎、软腭麻痹、声音嘶哑、肾上腺功能障碍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187280" y="299736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隐性感染、患病或预防接种后均可获得持久免疫力，主要为抗毒素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实验室诊断包括细菌学检查和毒力测定。对于疑似病例，首先用无菌棉拭子从患者咽部假膜边缘取材，制涂片两张，分别用美蓝（或奈瑟染色法）染色和革兰染色后镜检，如发现典型的革兰阳性棒状杆菌并有明显的异染颗粒，结合临床症状可作出初步诊断。同时，将标本接种于吕氏血清斜面或亚碲酸钾培养基上培养，根据菌落特点、生化反应、形态染色等作出最后鉴定。最后确定是否为产毒的白喉棒状杆菌，必须进行毒力试验，常采用琼脂平板毒力试验和动物试验两种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611280" y="333252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白喉类毒素是预防白喉的重要措施。多年的临床应用表明，采用白喉类毒素（常用白百破三联疫苗）进行人工自动免疫，可有效降低白喉的发病率和死亡率。对接触白喉患者的易感人群可用白喉抗毒素进行紧急预防。对白喉患者要及时隔离，并早期足量使用白喉抗毒素和抗生素进行积极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四节 铜绿假单胞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900000" y="33555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.aeruginos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假单胞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seudomona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的代表菌种。本菌能产生一种蓝绿色水溶性色素，感染伤口时形成蓝绿色脓液，故名绿脓杆菌。该菌广泛分布于自然界以及人体皮肤、肠道、呼吸道内。为条件致病菌，多引起继发感染和混合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971640" y="501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端鞭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根，无荚膜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Picture 7" descr="2"/>
          <p:cNvPicPr/>
          <p:nvPr/>
        </p:nvPicPr>
        <p:blipFill>
          <a:blip r:embed="rId1"/>
          <a:stretch/>
        </p:blipFill>
        <p:spPr>
          <a:xfrm>
            <a:off x="684360" y="2205000"/>
            <a:ext cx="3206520" cy="2111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th"/>
          <p:cNvPicPr/>
          <p:nvPr/>
        </p:nvPicPr>
        <p:blipFill>
          <a:blip r:embed="rId2"/>
          <a:stretch/>
        </p:blipFill>
        <p:spPr>
          <a:xfrm>
            <a:off x="4427640" y="1557360"/>
            <a:ext cx="3247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042920" y="48690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菌。营养要求不高，在普通培养基上生长良好，其产生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水溶性色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使培养基呈蓝绿色。血平板上产生透明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6" name="Picture 5" descr="tumblr_l5dg27mmCV1qbcssro1_500"/>
          <p:cNvPicPr/>
          <p:nvPr/>
        </p:nvPicPr>
        <p:blipFill>
          <a:blip r:embed="rId1"/>
          <a:srcRect l="0" t="9506" r="0" b="25926"/>
          <a:stretch/>
        </p:blipFill>
        <p:spPr>
          <a:xfrm>
            <a:off x="2268360" y="2060640"/>
            <a:ext cx="4096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68360" y="1844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的致病物质主要有内毒素、外毒素、蛋白水解酶和杀白细胞素等。当机体免疫功能降低如大面积烧伤、长期使用免疫抑制剂时易引起继发感染。临床常见的有皮肤及皮下组织感染、中耳炎、呼吸道感染、尿路感染、败血症等。该菌也是引起医院内感染的主要病原菌，对烧伤病房更应注意严格无菌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5" descr="19H9YOCAL93ERACA38MJEFCA2QYM05CADR9Q1OCAJ2GDL4CAD3D2WMCAT3D1AVCA9WEZFTCAS8LU4MCA292K0JCAYIWQ8BCAZ1TNUECAJSLWVUCABQMUWICA982L39CATG29U0CA8MCUT0CAAYFQR6"/>
          <p:cNvPicPr/>
          <p:nvPr/>
        </p:nvPicPr>
        <p:blipFill>
          <a:blip r:embed="rId1"/>
          <a:srcRect l="4724" t="4210" r="3961" b="3381"/>
          <a:stretch/>
        </p:blipFill>
        <p:spPr>
          <a:xfrm>
            <a:off x="2987640" y="3716280"/>
            <a:ext cx="345744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8360" y="2565360"/>
            <a:ext cx="2943000" cy="33116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120" name="Picture 6" descr="anthracis-c"/>
          <p:cNvPicPr/>
          <p:nvPr/>
        </p:nvPicPr>
        <p:blipFill>
          <a:blip r:embed="rId2"/>
          <a:stretch/>
        </p:blipFill>
        <p:spPr>
          <a:xfrm>
            <a:off x="5435640" y="3933720"/>
            <a:ext cx="2844720" cy="252432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121" name="Rectangle 8"/>
          <p:cNvSpPr/>
          <p:nvPr/>
        </p:nvSpPr>
        <p:spPr>
          <a:xfrm>
            <a:off x="3492360" y="1197000"/>
            <a:ext cx="4967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+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粗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个、短链或竹节状排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毒株有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氧条件下形成芽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五节 百日咳鲍特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258920" y="349524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.pertussi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鲍特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ordet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俗称百日咳杆菌，是人类百日咳的病原菌。百日咳是儿童常见的急性呼吸道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4572000" y="3213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浓染，光滑型菌株有荚膜和菌毛。无鞭毛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39640" y="2276640"/>
            <a:ext cx="3686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971640" y="2637000"/>
            <a:ext cx="70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专性需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常用含甘油、马铃薯、血液的鲍金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ordet-Gengou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培养基培养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形成细小、光滑、银灰色、不透明的珍珠样菌落，周围有不明显的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79280" y="12682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250920" y="1989000"/>
            <a:ext cx="889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的致病物质有荚膜、内毒素、百日咳毒素、菌毛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侵入易感儿童机体后，借菌毛黏附在呼吸道上皮细胞表面生长繁殖，释放毒性物质，导致上皮细胞坏死，进而抑制纤毛运动，导致黏稠分泌物增多却不能及时排出，刺激支气管感觉神经末梢，反射性地引起剧烈的连续性咳嗽。临床表现为早期轻度咳嗽、发热、喷嚏等，类似于普通感冒，为卡他期，此期传染性最强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出现阵发性、痉挛性咳嗽，呈现特殊的“鸡鸣样”吼声，伴有呕吐、呼吸困难、发绀等，此期为痉咳期。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进入恢复期，阵咳减轻，趋向痊愈。因其病程较长，故名百日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可获持久免疫力，主要为体液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24000" y="1557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特异性预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332000" y="2997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用百日咳鲍特菌死疫苗（常用白百破三联疫苗）进行人工自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908000" y="141300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六节 流感嗜血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11280" y="33544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.influenz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嗜血杆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aemophilu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简称流感杆菌。本菌首先从流感患者的鼻咽腔中分离出，当时被误认为是引起流感的病原菌。后来才证实流感杆菌仅引起原发性或继发性化脓性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859280" y="278136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短小杆菌，可呈球杆状、长杆状、丝状等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种形态。无鞭毛，不形成芽胞，多数菌株有菌毛，有毒株可形成荚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5" name="Picture 7" descr="1"/>
          <p:cNvPicPr/>
          <p:nvPr/>
        </p:nvPicPr>
        <p:blipFill>
          <a:blip r:embed="rId1"/>
          <a:stretch/>
        </p:blipFill>
        <p:spPr>
          <a:xfrm>
            <a:off x="324000" y="2060640"/>
            <a:ext cx="40194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26920" y="2492280"/>
            <a:ext cx="75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高，培养时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因子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故故常用巧克力色培养基。当流感嗜血杆菌与金黄色葡萄球菌同时培养于血琼脂平板上时，由于后者可产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因子供流感嗜血杆菌生长的需要，故距葡萄球菌菌落近的流感嗜血杆菌菌落较大，远的则渐小，称为“卫星现象”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tellite phenomeno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可用于鉴别流感嗜血杆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5" descr="haemophilus%20influenzae%2001"/>
          <p:cNvPicPr/>
          <p:nvPr/>
        </p:nvPicPr>
        <p:blipFill>
          <a:blip r:embed="rId1"/>
          <a:srcRect l="18595" t="8559" r="15115" b="8580"/>
          <a:stretch/>
        </p:blipFill>
        <p:spPr>
          <a:xfrm>
            <a:off x="395280" y="155736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aemophilus%20influenzae%20021"/>
          <p:cNvPicPr/>
          <p:nvPr/>
        </p:nvPicPr>
        <p:blipFill>
          <a:blip r:embed="rId2"/>
          <a:stretch/>
        </p:blipFill>
        <p:spPr>
          <a:xfrm>
            <a:off x="4211640" y="1484280"/>
            <a:ext cx="4727520" cy="37814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8"/>
          <p:cNvSpPr/>
          <p:nvPr/>
        </p:nvSpPr>
        <p:spPr>
          <a:xfrm>
            <a:off x="468360" y="5445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在巧克力色培养基表面的生长现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6068160" y="55897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星现象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39640" y="2349360"/>
            <a:ext cx="8136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荚膜多糖抗原性的不同将有荚膜的流感嗜血杆菌分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六个型别，其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致病力最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的致病因素为菌毛、荚膜、内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原发感染（外源性），多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菌株所致的急性化脓性炎症，如脑膜炎、鼻咽炎、心包炎、气管炎、肺炎等。也可引起继发感染（内源性），如鼻窦炎、中耳炎等，常在流感、麻疹、百日咳、肺结核等感染后发生，多由呼吸道寄居的无荚膜菌株引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692360" y="2492280"/>
            <a:ext cx="648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不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肉汤中呈絮状沉淀生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菌落：扁平菌落，低倍镜下菌落边缘呈卷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样，多不溶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258920" y="234936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外界环境的抵抗力很强，在室温干燥环境条件下可存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年，在皮毛中能存活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干热和某些化学消毒剂的抵抗力均较强，但高压蒸汽灭菌法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1℃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可将其杀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84360" y="2708280"/>
            <a:ext cx="763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）荚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D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谷氨酸多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炭疽毒素：炭疽毒素是由保护性抗原、致死因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水肿因子三种蛋白质形成的复合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毒性作用主要表现为损伤微血管内皮细胞，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血管壁通透性，导致水肿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6:01:09Z</dcterms:modified>
  <cp:revision>121</cp:revision>
  <dc:subject/>
  <dc:title>内科护理学</dc:title>
</cp:coreProperties>
</file>